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AC73-49CA-4119-94BB-12DBD0D791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832-AA85-4ECB-A1DE-41DF2CEFA11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8B56-D350-44CA-AED4-E306F5218FF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B233-BEBB-46FC-A42E-2BCEEF03271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8C3-FB31-4F20-B969-C5F87BFF155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E7CD-D331-4F9C-8D1B-42E21D39E59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B292-0D51-4B78-8AA4-38F529F9F6E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important t emphasis that the Death Camps were basically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3F0C-833A-44ED-BB7A-412A8D9FE61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klon B, or prussic aci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A1DC-B419-4ADA-B4A9-420FDBA606B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EDEA-C395-43B6-9087-34FCA71CD56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C974-D0AB-4C87-8234-F302F4055E7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7933-A845-4575-AFB1-3DD56890782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0887-A037-47EE-A483-09C61C60E81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DCDE-6535-45B4-ADA9-EEDFFA47A5D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9F49-6FDF-4E01-BEE8-55C9A2A836A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9C21-5865-49EE-B1C3-75D7B4721C5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F2EC-0C4B-4C88-90EF-B6B6573D4E4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D499-BD0C-45B6-8390-091DD7A05BA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32B5-A7D4-4757-925F-34CF03A7F60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1206-23A7-4332-9CE0-A5A3FD30D86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AB05-1C64-4575-B013-E12370A00A4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D6EE-402A-4904-A32C-FC3E61B23AA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BA15-17ED-4447-9A81-59C417E2ED7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member that the black dots represent the work of the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insatzgrupp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1987-B210-4260-BFB0-F3C2A44D2E6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CFA1-0BA9-4429-B14E-9ACE5EC1714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il is when a few good men decide to do no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033-E4A8-4575-9667-7728C59C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504-61B4-44F9-B8AE-138FFFDB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82E-58E4-4486-AE83-E07F2B5C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437-7F0E-4305-91CE-9E8E3BE2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CC4-D2C1-463F-9C38-C7A37BC1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3E9-E7FB-4657-B459-E148D784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8CA-00D7-41F1-8736-8C5629DA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616-029E-433A-A9C6-BAD381CC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3F9-3D56-4183-B05B-3BD0A8C8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FF8-2E32-4122-84E1-1B36188B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082-BD94-4FC0-B0C6-494F069E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5F7-6860-4427-9F6A-05E520A6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3142-D581-4337-ADB7-CD1FA44FDE0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uschwitz-muzeum.oswiecim.pl/html/eng/historia_KL/foto/krematoria_komory_gazowe_foto_ausch_26.06.44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ruthdig.com/images/eartothegrounduploads/jewish_star_35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wu.edu/~erpapers/humanrights/timeline/timeline6.cfm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Times New Roman"/>
              </a:rPr>
              <a:t>EQ:  Can genocide be prevented?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Times New Roman"/>
              </a:rPr>
              <a:t>Aim:  What is the “Final Solution”?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Times New Roman"/>
              </a:rPr>
              <a:t>L43</a:t>
            </a:r>
            <a:br>
              <a:rPr sz="5400"/>
            </a:br>
            <a:endParaRPr b="0" lang="en-US" sz="4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5105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Do Now:  Look at your stages of genocide handout from Friday.  With your group fill in the “What could this look like “ column (10 minutes!!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5" descr="arbeitmachtfrei"/>
          <p:cNvPicPr/>
          <p:nvPr/>
        </p:nvPicPr>
        <p:blipFill>
          <a:blip r:embed="rId1"/>
          <a:stretch/>
        </p:blipFill>
        <p:spPr>
          <a:xfrm>
            <a:off x="5562720" y="3200400"/>
            <a:ext cx="33526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SS Tac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The SS guards who murdered the Jews were brainwashed with Anti-Semitic propaga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Naked, dirty and half starved people look like animals, which helped to reinforce the Nazi propaga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The SS used to train their new guards by encouraging them to set fire to a pit full of live victims – usually child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ntrance to 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uschwitz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1027" descr="BirkEntrance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92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28"/>
          <p:cNvSpPr/>
          <p:nvPr/>
        </p:nvSpPr>
        <p:spPr>
          <a:xfrm>
            <a:off x="91440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tice how it has been built to resemble a railway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uschwitz Orchestr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auschwitz_orch"/>
          <p:cNvPicPr/>
          <p:nvPr/>
        </p:nvPicPr>
        <p:blipFill>
          <a:blip r:embed="rId1"/>
          <a:stretch/>
        </p:blipFill>
        <p:spPr>
          <a:xfrm>
            <a:off x="1219320" y="1219320"/>
            <a:ext cx="6553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Map of Auschwitz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auschwitzmap"/>
          <p:cNvPicPr/>
          <p:nvPr/>
        </p:nvPicPr>
        <p:blipFill>
          <a:blip r:embed="rId1"/>
          <a:stretch/>
        </p:blipFill>
        <p:spPr>
          <a:xfrm>
            <a:off x="685800" y="1295280"/>
            <a:ext cx="7467480" cy="4900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5105520" y="1447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New Arriv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1905120" y="1828800"/>
            <a:ext cx="350496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371600" y="3352680"/>
            <a:ext cx="60948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352680" y="49528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Destruction Through Work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5181480" y="3885840"/>
            <a:ext cx="129564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3200400" y="4343040"/>
            <a:ext cx="45720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85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howers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uschwitz from the ai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6" descr="Auschwitz-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447920"/>
            <a:ext cx="379872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5257800" y="15238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Notice how the Death camp is set out like a factory compl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5410080" y="335268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he Nazis used industrial methods to murder the Jews and process their dead bodi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2819160" y="2133720"/>
            <a:ext cx="2819160" cy="304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Method of Killing:  Gas Cha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azis would force large groups of prisoners into small cement rooms and let acidic gas fill the ro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gas chambers were sometimes disguised as showers or bathing ho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7" descr="gas_chamber"/>
          <p:cNvPicPr/>
          <p:nvPr/>
        </p:nvPicPr>
        <p:blipFill>
          <a:blip r:embed="rId1"/>
          <a:stretch/>
        </p:blipFill>
        <p:spPr>
          <a:xfrm>
            <a:off x="457200" y="1676520"/>
            <a:ext cx="411480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228600" y="6172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he SS would try and pack up to 2000 people into this gas chamber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outside of the Gas Chamb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" name="Picture 4" descr="creamatoria"/>
          <p:cNvPicPr/>
          <p:nvPr/>
        </p:nvPicPr>
        <p:blipFill>
          <a:blip r:embed="rId1"/>
          <a:stretch/>
        </p:blipFill>
        <p:spPr>
          <a:xfrm>
            <a:off x="1600200" y="1676520"/>
            <a:ext cx="6019920" cy="41655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8"/>
          <p:cNvGrpSpPr/>
          <p:nvPr/>
        </p:nvGrpSpPr>
        <p:grpSpPr>
          <a:xfrm>
            <a:off x="685800" y="3200040"/>
            <a:ext cx="7543800" cy="3355560"/>
            <a:chOff x="685800" y="3200040"/>
            <a:chExt cx="7543800" cy="3355560"/>
          </a:xfrm>
        </p:grpSpPr>
        <p:sp>
          <p:nvSpPr>
            <p:cNvPr id="148" name="Text Box 5"/>
            <p:cNvSpPr/>
            <p:nvPr/>
          </p:nvSpPr>
          <p:spPr>
            <a:xfrm>
              <a:off x="685800" y="6095880"/>
              <a:ext cx="75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Notice the Ovens easy located near the Gas Chamb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 flipH="1" flipV="1">
              <a:off x="1980720" y="3504960"/>
              <a:ext cx="304920" cy="2514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 flipV="1">
              <a:off x="3657600" y="3200040"/>
              <a:ext cx="304920" cy="2971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ocessing the bo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cially selected Jewish people were used to to remove the gold fillings, rings and hair of people who had been gas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OVENS"/>
          <p:cNvPicPr/>
          <p:nvPr/>
        </p:nvPicPr>
        <p:blipFill>
          <a:blip r:embed="rId1"/>
          <a:stretch/>
        </p:blipFill>
        <p:spPr>
          <a:xfrm>
            <a:off x="228600" y="1924200"/>
            <a:ext cx="4267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ngs taken off the bodies at Buchenwa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5" name="Picture 1029" descr="80623"/>
          <p:cNvPicPr/>
          <p:nvPr/>
        </p:nvPicPr>
        <p:blipFill>
          <a:blip r:embed="rId1"/>
          <a:srcRect l="0" t="3973" r="0" b="0"/>
          <a:stretch/>
        </p:blipFill>
        <p:spPr>
          <a:xfrm>
            <a:off x="1523880" y="1981080"/>
            <a:ext cx="59436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Ovens at Dacha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4" descr="dachoven"/>
          <p:cNvPicPr/>
          <p:nvPr/>
        </p:nvPicPr>
        <p:blipFill>
          <a:blip r:embed="rId1"/>
          <a:stretch/>
        </p:blipFill>
        <p:spPr>
          <a:xfrm>
            <a:off x="1066680" y="1752480"/>
            <a:ext cx="66294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elude to the “Final Solutio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 1939, half of Germany’s 500,000 Jewish people had emigrated to escape Nazi persecu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1940, all Jews had to have their passports stamped with the letter ‘J’ and had to wear the  yellow Star of David on their jacket or co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jewish_star_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905120"/>
            <a:ext cx="38098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Dead bodies waiting to be process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1027" descr="MAUTHAUS"/>
          <p:cNvPicPr/>
          <p:nvPr/>
        </p:nvPicPr>
        <p:blipFill>
          <a:blip r:embed="rId1"/>
          <a:stretch/>
        </p:blipFill>
        <p:spPr>
          <a:xfrm>
            <a:off x="2286000" y="1371600"/>
            <a:ext cx="4659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Shoes waiting to be process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ShoeHeap"/>
          <p:cNvPicPr/>
          <p:nvPr/>
        </p:nvPicPr>
        <p:blipFill>
          <a:blip r:embed="rId1"/>
          <a:stretch/>
        </p:blipFill>
        <p:spPr>
          <a:xfrm>
            <a:off x="1905120" y="1752480"/>
            <a:ext cx="5181480" cy="3976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380880" y="5715000"/>
            <a:ext cx="8153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Taken inside a huge glass case in the Auschwitz Museum. This represents one day's collection at the peak of the gassings, about twenty five thousand pairs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locaust Tatto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572000" cy="3597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8098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How did the Jews resis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n like Oscar Schindler helped Jews escape the Final Solu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1943, the Warsaw Ghetto, like many others revolted against the Nazis when the Jews realised what was really happe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Results of the Holocaust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azis managed to kill at least 6 million Jews as well as about 4-5 million gypsies, slavs and the disabled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45 and 1946, as a result of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remberg Trial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12 Nazi leaders were sentenced to death for their war cri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676520" y="5105520"/>
            <a:ext cx="609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4148280"/>
            <a:ext cx="35049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Prelude to the Final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n 1939, Germany invaded Poland which had a much larger population of 3 million Jewish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n 1941, Germany invaded Russia which had a population of     5 million Jewish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7" descr="Maps"/>
          <p:cNvPicPr/>
          <p:nvPr/>
        </p:nvPicPr>
        <p:blipFill>
          <a:blip r:embed="rId1"/>
          <a:stretch/>
        </p:blipFill>
        <p:spPr>
          <a:xfrm>
            <a:off x="609480" y="1447920"/>
            <a:ext cx="380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irst Tactic used : Einsatzgruppen (assassination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Picture 5" descr="EINGROU2"/>
          <p:cNvPicPr/>
          <p:nvPr/>
        </p:nvPicPr>
        <p:blipFill>
          <a:blip r:embed="rId1"/>
          <a:stretch/>
        </p:blipFill>
        <p:spPr>
          <a:xfrm>
            <a:off x="1371600" y="1523880"/>
            <a:ext cx="6172200" cy="4938840"/>
          </a:xfrm>
          <a:prstGeom prst="rect">
            <a:avLst/>
          </a:prstGeom>
          <a:ln w="0">
            <a:noFill/>
          </a:ln>
        </p:spPr>
      </p:pic>
      <p:pic>
        <p:nvPicPr>
          <p:cNvPr id="59" name="MacOS" descr=""/>
          <p:cNvPicPr/>
          <p:nvPr/>
        </p:nvPicPr>
        <p:blipFill>
          <a:blip r:embed="rId2"/>
          <a:stretch/>
        </p:blipFill>
        <p:spPr>
          <a:xfrm>
            <a:off x="7772400" y="5791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Final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5724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Times New Roman"/>
              </a:rPr>
              <a:t>In January 1942, Heinrich Himmler the head of the SS soldiers organized the plan for the Final Solutio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6" descr="Himmler"/>
          <p:cNvPicPr/>
          <p:nvPr/>
        </p:nvPicPr>
        <p:blipFill>
          <a:blip r:embed="rId1"/>
          <a:stretch/>
        </p:blipFill>
        <p:spPr>
          <a:xfrm>
            <a:off x="782640" y="1752480"/>
            <a:ext cx="2774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5"/>
          <p:cNvSpPr/>
          <p:nvPr/>
        </p:nvSpPr>
        <p:spPr>
          <a:xfrm>
            <a:off x="2666880" y="2590920"/>
            <a:ext cx="3505320" cy="19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00400" y="30481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w was the Final Solution going to be organis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172200" y="129528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hooting wasted bullets --Gas chambers were more eff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477120" y="3048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ve  into Ghetto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324480" y="48769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these Ghettos were to be used as a cheap source of labou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590920" y="502920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ditions in the Ghettos were designed to be so bad that many die while the rest would be willing to leave these areas in the hope of better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0" y="29718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 arrival they would go through a ‘selection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 flipV="1">
            <a:off x="5562720" y="23623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617220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5943600" y="41148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434340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15228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ved to concentration cam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152280" y="12952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omen, children, the old &amp; the sick were to be sent for ‘special treatment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19520" y="129528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young and fit would go through a process called ‘destruction through work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9"/>
          <p:cNvSpPr/>
          <p:nvPr/>
        </p:nvSpPr>
        <p:spPr>
          <a:xfrm flipH="1">
            <a:off x="1904760" y="4191120"/>
            <a:ext cx="11430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0"/>
          <p:cNvSpPr/>
          <p:nvPr/>
        </p:nvSpPr>
        <p:spPr>
          <a:xfrm flipH="1">
            <a:off x="2437920" y="3581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 flipH="1" flipV="1">
            <a:off x="2133720" y="236196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 flipV="1">
            <a:off x="4419720" y="2285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Where were the Death Camps built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3" descr="MAP"/>
          <p:cNvPicPr/>
          <p:nvPr/>
        </p:nvPicPr>
        <p:blipFill>
          <a:blip r:embed="rId1"/>
          <a:stretch/>
        </p:blipFill>
        <p:spPr>
          <a:xfrm>
            <a:off x="914400" y="1143000"/>
            <a:ext cx="7086600" cy="51022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4"/>
          <p:cNvGrpSpPr/>
          <p:nvPr/>
        </p:nvGrpSpPr>
        <p:grpSpPr>
          <a:xfrm>
            <a:off x="1143000" y="2286000"/>
            <a:ext cx="6553080" cy="4422240"/>
            <a:chOff x="1143000" y="2286000"/>
            <a:chExt cx="6553080" cy="4422240"/>
          </a:xfrm>
        </p:grpSpPr>
        <p:sp>
          <p:nvSpPr>
            <p:cNvPr id="84" name="Text Box 4"/>
            <p:cNvSpPr/>
            <p:nvPr/>
          </p:nvSpPr>
          <p:spPr>
            <a:xfrm>
              <a:off x="1143000" y="624852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Why do you think that they located them here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H="1" flipV="1">
              <a:off x="5257800" y="3733920"/>
              <a:ext cx="533520" cy="2590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4267080" y="2286000"/>
              <a:ext cx="1447920" cy="1523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Text Box 8"/>
          <p:cNvSpPr/>
          <p:nvPr/>
        </p:nvSpPr>
        <p:spPr>
          <a:xfrm>
            <a:off x="6019920" y="12952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work of the Einsatzgrupp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 flipH="1">
            <a:off x="5943240" y="1905120"/>
            <a:ext cx="76212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1"/>
          <p:cNvSpPr/>
          <p:nvPr/>
        </p:nvSpPr>
        <p:spPr>
          <a:xfrm flipH="1">
            <a:off x="6705360" y="1981080"/>
            <a:ext cx="7596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6781680" y="2438280"/>
            <a:ext cx="457200" cy="99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 flipH="1">
            <a:off x="5562360" y="1676520"/>
            <a:ext cx="685800" cy="759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What tactics did the Nazis use to get the Jews to leave the Ghetto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Oval 3"/>
          <p:cNvSpPr/>
          <p:nvPr/>
        </p:nvSpPr>
        <p:spPr>
          <a:xfrm>
            <a:off x="2895480" y="2819520"/>
            <a:ext cx="2590920" cy="1752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429000" y="3352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ac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477120" y="1676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ta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5181480" y="2057040"/>
            <a:ext cx="198144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324480" y="25909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The Jews in the Warsaw Ghetto were only fed a 1000 calories a day </a:t>
            </a:r>
            <a:r>
              <a:rPr b="0" lang="en-GB" sz="16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400800" y="449568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A Human being needs 2400 calories a day to maintain their w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7620120" y="3886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76201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429000" y="4800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743200" y="548640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The SS publicly shot people for smuggling food or for any act of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04920" y="15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e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152280" y="220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The Jews were told that they were going to ‘resettlement areas’ in the E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28600" y="36576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In some Ghettos the Jews had to purchase their own train ti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04920" y="5105520"/>
            <a:ext cx="190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They were told to bring the tools of their trade and pots and pa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7620120" y="5410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553080" y="5715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ungry people are easier to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2670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4267080" y="5257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21"/>
          <p:cNvSpPr/>
          <p:nvPr/>
        </p:nvSpPr>
        <p:spPr>
          <a:xfrm flipH="1" flipV="1">
            <a:off x="2133720" y="1981080"/>
            <a:ext cx="121896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1295280" y="205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12952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129528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2133720" y="1905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3581280" y="152388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New arrivals at the Death camps were given postcards to send to their friends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hildren Dying of Starvation in the Warsaw Ghet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Gheto life2"/>
          <p:cNvPicPr/>
          <p:nvPr/>
        </p:nvPicPr>
        <p:blipFill>
          <a:blip r:embed="rId1"/>
          <a:stretch/>
        </p:blipFill>
        <p:spPr>
          <a:xfrm>
            <a:off x="4495680" y="1676520"/>
            <a:ext cx="4259520" cy="449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Ghetto life"/>
          <p:cNvPicPr/>
          <p:nvPr/>
        </p:nvPicPr>
        <p:blipFill>
          <a:blip r:embed="rId2"/>
          <a:stretch/>
        </p:blipFill>
        <p:spPr>
          <a:xfrm>
            <a:off x="228600" y="1676520"/>
            <a:ext cx="4724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2:08:41Z</dcterms:created>
  <dc:creator>RJ Huggins</dc:creator>
  <dc:description/>
  <dc:language>en-US</dc:language>
  <cp:lastModifiedBy>NYCDOE</cp:lastModifiedBy>
  <dcterms:modified xsi:type="dcterms:W3CDTF">2012-03-01T12:32:56Z</dcterms:modified>
  <cp:revision>48</cp:revision>
  <dc:subject/>
  <dc:title>The Jews 1940 - 1945</dc:title>
</cp:coreProperties>
</file>